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3A73-8051-4ADF-8368-CE76F9F9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206E-13E0-47AC-BB8F-DCD46B4D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5C67-6D38-4030-A457-F179B9EC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BA40-D9E9-40DB-9D3E-894617E5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911C-887F-469F-BF7E-103EB9E7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F459-0F71-4979-8C7B-89C7E487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2F25-576B-4F93-9A00-C72626B9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9EA3-33BB-4843-93F1-30525771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AFE1-AB65-43D7-A02C-E0CAE136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7DB6-4264-454A-873B-9B462595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BF18-2BBB-4013-9A1C-FBFC95A4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FE9A-ADDC-44FF-A5B2-38FE1631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0376-9BFD-4B14-891E-EE3EEA00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46DE-73BF-45E4-A0D4-7372FD79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1E98-119F-430C-B313-C5CE3A0C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5049-422D-43B4-9DAD-01E6083C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7D52-C2CA-404E-A6BB-F42B3881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85C2-C66F-45CF-8316-49C3360E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9919-F1CE-4507-AAB6-D105F8C3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B427-69D2-4DD6-A7B0-944B0B5A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D476-2A50-4E4F-A05F-28120818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9777-3D81-4FE6-A2EC-7CA0787E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AA18-062B-464A-8054-8EBB7C5E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0E3E-D089-4A03-B8AC-E0ED4EEE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F63A-42F6-42C6-9C70-35A9519457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2D3D-0A90-46CE-8D24-8C69551907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Рехабилитациј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ЦО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oc. dr sci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Лукови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Класификациј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ЦО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прем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тежин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Лак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блик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и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требан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ретман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ет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рећ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ез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магал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пособн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вакоднев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живот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говор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реда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ред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ешк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требан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ретман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орист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магал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м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мет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говор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ешк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блик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амозбрињава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рета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говор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мај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лош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огноз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оживот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ретма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Клиничк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слик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ЦО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ремећај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оторик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рж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глав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забацу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ешк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гут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ешк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г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вит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Еп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апад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ремећеј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ид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лух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ремећај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гово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ентал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тардац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Емоционал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метњ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пшт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ензор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лабос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Евалуациј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етет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с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ЦО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Захтев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имск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ад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ећег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ро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тручњак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уролог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физијатр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едијатр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ртопед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ефектолога (логопед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оматопеда..)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ерапеут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отетичар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ет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АЂ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Ц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ећ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оторним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ремећајем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оже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,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а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е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ор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стат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Ц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Преглед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етет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с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ЦО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спитива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ложајних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акц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пи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понтаног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нашањ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ете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спитива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ажних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имитивних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флек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Постуралне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реакције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етет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едстављај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рз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декватан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дговор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омен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ложа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дговор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ам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говор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оторној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тарост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ете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знача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ок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ет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оход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Ц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аљ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ремећај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стур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м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ортиколи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колиоз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луксаци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ук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.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и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30%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здраве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дец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Постуралне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реакциј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ракцио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об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Ланда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акц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ксиларн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исећ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акц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очн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латећ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ој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оризонталн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исећ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Colins-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во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ертикалн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исећ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Colins-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во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ертикалн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исећ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Peiper Isbet-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ијагностик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ЦО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намнез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изик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еб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еглед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 “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централ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ремећај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оординаци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ез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ремећа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онус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”(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3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ам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атит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4-5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лак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6-7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редњ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вих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7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ежак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акон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в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(..3 )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?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годи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Ц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Спонтано понашање детет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имик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крет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ид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луш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ктивност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флексио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ериод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6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дељ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флекс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локомоц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екстензио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ериод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7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дељ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4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е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в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вес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колин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флексио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ериод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4.-9.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е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ипрем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узањ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екстензио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ериод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9-12.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е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Спонтано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понашање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етет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зитив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казатељ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оторик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еза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дређен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об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стоја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ан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ог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ериод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зостаја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ад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реб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сто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атолош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рст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ашњењ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армонич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исхармонич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Испитивање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примитивних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рефлекс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флекс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ватањ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ук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ог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Galantov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флекс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пружањ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упрапубич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крште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флек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оре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шак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ет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утоматск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од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рофацијал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Bapkin,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флек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исањ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ruting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птичк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кустичк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фацијални рефлек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928440"/>
            <a:ext cx="777240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изико беб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иљоказ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исхармонични разво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ипотон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Ц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Физикално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лечењ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Bobath,Phelbs, Gillete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bath, Vojta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вак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аведених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етод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м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во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правдањ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з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аведених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етод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реб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зет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н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шт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ћ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етет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моћ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јер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вак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ет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лучај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еб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ушти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локират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атолошк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тимулисат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жеље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крет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Vojtina meto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дојч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флексн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ић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флексн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рета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чи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флексн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уза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флексн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кретањ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раж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дређе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ачк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шем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оби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ктиван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кр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ад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3-4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ут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нев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достатак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изводљив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сл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1.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год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живо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Bobath meto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нхибици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бнормалних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флекс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ИП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рш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ложај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руп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зглобов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упротном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атолошког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АСИВ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Фасилитаци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ормалних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акци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справљањ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авнотеж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КТИВ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птерећујућ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етод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ет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ар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8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е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тар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Медикаментн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терапиј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ЦО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имптоматск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нтиепилептиц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сихостабилизатор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аузал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ерапи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стој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леков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бољшавај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уротрансмитерск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ејств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ЦН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ог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оприне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Bot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Хирушко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лечење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ЦО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алијативн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главном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пастичар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ад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уротоми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елонгаци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етив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ошта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нтервенци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Циљев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споставља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функци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шт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лични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физиолошкој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орфологи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естетик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оригова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ржањ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пречава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мање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еформите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Леђни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положај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962520" cy="2057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838080" y="4419720"/>
            <a:ext cx="3175200" cy="17319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4500720" y="1214280"/>
            <a:ext cx="4243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олико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ничн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флекс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ат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итивн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ишен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ну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кстензорим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бачен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наза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мен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тракциј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чмен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уб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хиперекстензиј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г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укциј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н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тациј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пал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тарној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лексиј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РИП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положај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–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леђни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положај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3810240" cy="2362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4724280" y="2971800"/>
            <a:ext cx="38102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Положај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етет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н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трбух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809880" cy="15242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Dutch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пронираном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положај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повећав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с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мишићн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тонус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флексорим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.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Глав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детет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леж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н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подлоз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кичмен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стуб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ј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флектиран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рамен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с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повучен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к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напред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флектиран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рук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с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налаз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испод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грудног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коша.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Натколениц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потколениц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с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такођ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флектиран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П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дењу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939960" y="1641600"/>
            <a:ext cx="3300120" cy="4454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Код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позитивних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симетричних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асиметричних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рефлекса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врата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мишићни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тонус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се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мења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у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зависности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од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промене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положаја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главе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врата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Такво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дете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у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седећем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положају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губи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равнотежу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пада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уназад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или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у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страну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Поступак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РИП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YUDutch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Патолошке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активности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терапеут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инхибира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постављањем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ногу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у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абдукцију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спољну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ротациј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3049560" cy="411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ефинициј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ЦО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Ц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и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олест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ећ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група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тања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азличитог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аријетет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зултат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штећењ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павилног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азво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озг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uter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оком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еринаталног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живот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Bobat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Ц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епрогресивни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ремећај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озг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аста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рем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гравидитет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рођа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онаталном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ериод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оузроку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бнормалност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крет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тавов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Rus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00"/>
              </a:solidFill>
              <a:latin typeface="YUDutchB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YUDutch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Терапеут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поставља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ноге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детета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у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спољну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ротацију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абдукцију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стопала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у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неутрални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положај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уз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постављање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целог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стопала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на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површину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ослонца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1012680" y="1641600"/>
            <a:ext cx="315612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YUDutchB"/>
              </a:rPr>
              <a:t>РИП</a:t>
            </a:r>
            <a:r>
              <a:rPr b="0" lang="en-GB" sz="4400" spc="-1" strike="noStrike">
                <a:solidFill>
                  <a:srgbClr val="ffff00"/>
                </a:solidFill>
                <a:latin typeface="YUDutchB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YUDutchB"/>
              </a:rPr>
              <a:t>за</a:t>
            </a:r>
            <a:r>
              <a:rPr b="0" lang="en-GB" sz="4400" spc="-1" strike="noStrike">
                <a:solidFill>
                  <a:srgbClr val="ffff00"/>
                </a:solidFill>
                <a:latin typeface="YUDutchB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YUDutchB"/>
              </a:rPr>
              <a:t>шак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YUDutch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Појачан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тонус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флексор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прстиј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шак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условљав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стегнут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шак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немогућност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отварањ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шак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685800" y="1963800"/>
            <a:ext cx="3809880" cy="3809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РИП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поступа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Терапеут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одвој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палац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абдукциј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н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тај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начин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с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инхибир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флексион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тонус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прст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с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опружај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685800" y="181116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Дете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је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постављено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на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трбух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.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Ноге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су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екстендиране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и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абдуциране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стопала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су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неутралној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плантарној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позицији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.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Руке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су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испружене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напре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YUDutchB"/>
              </a:rPr>
              <a:t>Увежбавање</a:t>
            </a:r>
            <a:r>
              <a:rPr b="0" lang="en-GB" sz="4400" spc="-1" strike="noStrike">
                <a:solidFill>
                  <a:srgbClr val="ffff00"/>
                </a:solidFill>
                <a:latin typeface="YUDutchB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YUDutchB"/>
              </a:rPr>
              <a:t>лабиринтног</a:t>
            </a:r>
            <a:r>
              <a:rPr b="0" lang="en-GB" sz="4400" spc="-1" strike="noStrike">
                <a:solidFill>
                  <a:srgbClr val="ffff00"/>
                </a:solidFill>
                <a:latin typeface="YUDutchB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YUDutchB"/>
              </a:rPr>
              <a:t>исправљања</a:t>
            </a:r>
            <a:r>
              <a:rPr b="0" lang="en-GB" sz="4400" spc="-1" strike="noStrike">
                <a:solidFill>
                  <a:srgbClr val="ffff00"/>
                </a:solidFill>
                <a:latin typeface="YUDutchB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YUDutchB"/>
              </a:rPr>
              <a:t>главе</a:t>
            </a:r>
            <a:r>
              <a:rPr b="0" lang="en-GB" sz="4400" spc="-1" strike="noStrike">
                <a:solidFill>
                  <a:srgbClr val="ffff00"/>
                </a:solidFill>
                <a:latin typeface="YUDutchB"/>
              </a:rPr>
              <a:t> - </a:t>
            </a:r>
            <a:r>
              <a:rPr b="0" lang="sr-CS" sz="4400" spc="-1" strike="noStrike">
                <a:solidFill>
                  <a:srgbClr val="ffff00"/>
                </a:solidFill>
                <a:latin typeface="YUDutchB"/>
              </a:rPr>
              <a:t>екстензиј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Поступа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071600" y="928440"/>
            <a:ext cx="507204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)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Глав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детет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се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ухвати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з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браду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потиљачну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регију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окрене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у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једну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страну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.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Н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тој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страни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долази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до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појачањ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тонус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екстензор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н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супротној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страни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до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смањењ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тонус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екстензор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б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)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Терапеут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након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измене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тоничних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реакциј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уравнотежењ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тонус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фиксир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карлицу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пом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`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е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детету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д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се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исправи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напред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с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испру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`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еним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рукам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214200" y="928800"/>
            <a:ext cx="3747960" cy="5500080"/>
            <a:chOff x="214200" y="928800"/>
            <a:chExt cx="3747960" cy="5500080"/>
          </a:xfrm>
        </p:grpSpPr>
        <p:pic>
          <p:nvPicPr>
            <p:cNvPr id="170" name="Picture 5" descr=""/>
            <p:cNvPicPr/>
            <p:nvPr/>
          </p:nvPicPr>
          <p:blipFill>
            <a:blip r:embed="rId1"/>
            <a:stretch/>
          </p:blipFill>
          <p:spPr>
            <a:xfrm>
              <a:off x="309960" y="928800"/>
              <a:ext cx="3556080" cy="171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6" descr=""/>
            <p:cNvPicPr/>
            <p:nvPr/>
          </p:nvPicPr>
          <p:blipFill>
            <a:blip r:embed="rId2"/>
            <a:stretch/>
          </p:blipFill>
          <p:spPr>
            <a:xfrm>
              <a:off x="309960" y="3002040"/>
              <a:ext cx="3652200" cy="162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7" descr=""/>
            <p:cNvPicPr/>
            <p:nvPr/>
          </p:nvPicPr>
          <p:blipFill>
            <a:blip r:embed="rId3"/>
            <a:stretch/>
          </p:blipFill>
          <p:spPr>
            <a:xfrm>
              <a:off x="214200" y="4945680"/>
              <a:ext cx="3747960" cy="1483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Поступа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Терапеут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ј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из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детет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.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Рукам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обухват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надлактиц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забацуј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крајњ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екстензиј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адукциј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об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рук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уз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ротаторн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покрет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унутрашњ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спољашњ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ротациј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981000" y="1641600"/>
            <a:ext cx="321804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Дет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сед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н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крил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терапеут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ил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н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столиц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с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ногам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абдукциј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спољној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ротациј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.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Терапеут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повл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~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рук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детет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екстензиј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аддукциј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спољн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ротациј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лагано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гур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дет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к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напред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685800" y="181116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YUDutchB"/>
              </a:rPr>
              <a:t>Увежбавање</a:t>
            </a:r>
            <a:r>
              <a:rPr b="0" lang="en-GB" sz="3200" spc="-1" strike="noStrike">
                <a:solidFill>
                  <a:srgbClr val="ffff00"/>
                </a:solidFill>
                <a:latin typeface="YUDutchB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YUDutchB"/>
              </a:rPr>
              <a:t>реакције</a:t>
            </a:r>
            <a:r>
              <a:rPr b="0" lang="en-GB" sz="3200" spc="-1" strike="noStrike">
                <a:solidFill>
                  <a:srgbClr val="ffff00"/>
                </a:solidFill>
                <a:latin typeface="YUDutchB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YUDutchB"/>
              </a:rPr>
              <a:t>вратног</a:t>
            </a:r>
            <a:r>
              <a:rPr b="0" lang="en-GB" sz="3200" spc="-1" strike="noStrike">
                <a:solidFill>
                  <a:srgbClr val="ffff00"/>
                </a:solidFill>
                <a:latin typeface="YUDutchB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YUDutchB"/>
              </a:rPr>
              <a:t>исправљања</a:t>
            </a:r>
            <a:r>
              <a:rPr b="0" lang="en-GB" sz="3200" spc="-1" strike="noStrike">
                <a:solidFill>
                  <a:srgbClr val="ffff00"/>
                </a:solidFill>
                <a:latin typeface="YUDutchB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YUDutchB"/>
              </a:rPr>
              <a:t>из</a:t>
            </a:r>
            <a:r>
              <a:rPr b="0" lang="en-GB" sz="3200" spc="-1" strike="noStrike">
                <a:solidFill>
                  <a:srgbClr val="ffff00"/>
                </a:solidFill>
                <a:latin typeface="YUDutchB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YUDutchB"/>
              </a:rPr>
              <a:t>положаја</a:t>
            </a:r>
            <a:r>
              <a:rPr b="0" lang="en-GB" sz="3200" spc="-1" strike="noStrike">
                <a:solidFill>
                  <a:srgbClr val="ffff00"/>
                </a:solidFill>
                <a:latin typeface="YUDutchB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YUDutchB"/>
              </a:rPr>
              <a:t>супинације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0" name="Group 5"/>
          <p:cNvGrpSpPr/>
          <p:nvPr/>
        </p:nvGrpSpPr>
        <p:grpSpPr>
          <a:xfrm>
            <a:off x="285840" y="1357200"/>
            <a:ext cx="8429040" cy="4241160"/>
            <a:chOff x="285840" y="1357200"/>
            <a:chExt cx="8429040" cy="4241160"/>
          </a:xfrm>
        </p:grpSpPr>
        <p:pic>
          <p:nvPicPr>
            <p:cNvPr id="181" name="Picture 6" descr=""/>
            <p:cNvPicPr/>
            <p:nvPr/>
          </p:nvPicPr>
          <p:blipFill>
            <a:blip r:embed="rId1"/>
            <a:stretch/>
          </p:blipFill>
          <p:spPr>
            <a:xfrm>
              <a:off x="2949480" y="1357200"/>
              <a:ext cx="2747160" cy="17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7" descr=""/>
            <p:cNvPicPr/>
            <p:nvPr/>
          </p:nvPicPr>
          <p:blipFill>
            <a:blip r:embed="rId2"/>
            <a:stretch/>
          </p:blipFill>
          <p:spPr>
            <a:xfrm>
              <a:off x="285840" y="3781800"/>
              <a:ext cx="3329640" cy="181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8" descr=""/>
            <p:cNvPicPr/>
            <p:nvPr/>
          </p:nvPicPr>
          <p:blipFill>
            <a:blip r:embed="rId3"/>
            <a:stretch/>
          </p:blipFill>
          <p:spPr>
            <a:xfrm>
              <a:off x="5031000" y="3692520"/>
              <a:ext cx="3683880" cy="190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Dutch"/>
              </a:rPr>
              <a:t>Увежбавање</a:t>
            </a:r>
            <a:r>
              <a:rPr b="0" lang="en-US" sz="32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Dutch"/>
              </a:rPr>
              <a:t>реакције</a:t>
            </a:r>
            <a:r>
              <a:rPr b="0" lang="en-US" sz="32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Dutch"/>
              </a:rPr>
              <a:t>исправљања</a:t>
            </a:r>
            <a:r>
              <a:rPr b="0" lang="en-US" sz="32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Dutch"/>
              </a:rPr>
              <a:t>тела</a:t>
            </a:r>
            <a:r>
              <a:rPr b="0" lang="en-US" sz="32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Dutch"/>
              </a:rPr>
              <a:t>преко</a:t>
            </a:r>
            <a:r>
              <a:rPr b="0" lang="en-US" sz="32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Dutch"/>
              </a:rPr>
              <a:t>окрета</a:t>
            </a:r>
            <a:r>
              <a:rPr b="0" lang="en-US" sz="32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Dutch"/>
              </a:rPr>
              <a:t>рамена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810240" cy="1371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2"/>
          <a:stretch/>
        </p:blipFill>
        <p:spPr>
          <a:xfrm>
            <a:off x="762120" y="3387600"/>
            <a:ext cx="3528720" cy="1413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3"/>
          <a:stretch/>
        </p:blipFill>
        <p:spPr>
          <a:xfrm>
            <a:off x="981000" y="4964040"/>
            <a:ext cx="3057480" cy="14367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7"/>
          <p:cNvGrpSpPr/>
          <p:nvPr/>
        </p:nvGrpSpPr>
        <p:grpSpPr>
          <a:xfrm>
            <a:off x="380880" y="2362320"/>
            <a:ext cx="8534520" cy="3047760"/>
            <a:chOff x="380880" y="2362320"/>
            <a:chExt cx="8534520" cy="3047760"/>
          </a:xfrm>
        </p:grpSpPr>
        <p:pic>
          <p:nvPicPr>
            <p:cNvPr id="190" name="Picture 3" descr=""/>
            <p:cNvPicPr/>
            <p:nvPr/>
          </p:nvPicPr>
          <p:blipFill>
            <a:blip r:embed="rId1"/>
            <a:stretch/>
          </p:blipFill>
          <p:spPr>
            <a:xfrm>
              <a:off x="380880" y="2362320"/>
              <a:ext cx="2133720" cy="30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4" descr=""/>
            <p:cNvPicPr/>
            <p:nvPr/>
          </p:nvPicPr>
          <p:blipFill>
            <a:blip r:embed="rId2"/>
            <a:stretch/>
          </p:blipFill>
          <p:spPr>
            <a:xfrm>
              <a:off x="2666880" y="2362320"/>
              <a:ext cx="1857600" cy="30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5" descr=""/>
            <p:cNvPicPr/>
            <p:nvPr/>
          </p:nvPicPr>
          <p:blipFill>
            <a:blip r:embed="rId3"/>
            <a:stretch/>
          </p:blipFill>
          <p:spPr>
            <a:xfrm>
              <a:off x="4648320" y="2362320"/>
              <a:ext cx="2057400" cy="30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6" descr=""/>
            <p:cNvPicPr/>
            <p:nvPr/>
          </p:nvPicPr>
          <p:blipFill>
            <a:blip r:embed="rId4"/>
            <a:stretch/>
          </p:blipFill>
          <p:spPr>
            <a:xfrm>
              <a:off x="6858000" y="2362320"/>
              <a:ext cx="2057400" cy="30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ефинициј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ЦО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Ц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линичк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та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астал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ејством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ког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физичког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нсулт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ЕТЕЖН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отор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истем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озг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азвој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зре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штећењ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рај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тационира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казуј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огресиј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еђутим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нвалидитет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апредоват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адојичић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Dutch"/>
              </a:rPr>
              <a:t>Увежбавање</a:t>
            </a:r>
            <a:r>
              <a:rPr b="0" lang="en-US" sz="32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Dutch"/>
              </a:rPr>
              <a:t>реакције</a:t>
            </a:r>
            <a:r>
              <a:rPr b="0" lang="en-US" sz="32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Dutch"/>
              </a:rPr>
              <a:t>усправљања</a:t>
            </a:r>
            <a:r>
              <a:rPr b="0" lang="en-US" sz="3200" spc="-1" strike="noStrike">
                <a:solidFill>
                  <a:srgbClr val="000000"/>
                </a:solidFill>
                <a:latin typeface="Dutch"/>
              </a:rPr>
              <a:t> - </a:t>
            </a:r>
            <a:r>
              <a:rPr b="0" lang="sr-CS" sz="3200" spc="-1" strike="noStrike">
                <a:solidFill>
                  <a:srgbClr val="000000"/>
                </a:solidFill>
                <a:latin typeface="Dutch"/>
              </a:rPr>
              <a:t>прелаз</a:t>
            </a:r>
            <a:r>
              <a:rPr b="0" lang="en-US" sz="32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Dutch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Dutch"/>
              </a:rPr>
              <a:t>стојећи</a:t>
            </a:r>
            <a:r>
              <a:rPr b="0" lang="en-US" sz="32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Dutch"/>
              </a:rPr>
              <a:t>положај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2214360" cy="2323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2"/>
          <a:stretch/>
        </p:blipFill>
        <p:spPr>
          <a:xfrm>
            <a:off x="2500200" y="1643040"/>
            <a:ext cx="2086200" cy="3348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4724280" y="1643040"/>
            <a:ext cx="2017800" cy="3357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6858000" y="1643040"/>
            <a:ext cx="21430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Dutch"/>
              </a:rPr>
              <a:t>Увежбавање</a:t>
            </a:r>
            <a:r>
              <a:rPr b="0" lang="en-US" sz="32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Dutch"/>
              </a:rPr>
              <a:t>заштитне</a:t>
            </a:r>
            <a:r>
              <a:rPr b="0" lang="en-US" sz="32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Dutch"/>
              </a:rPr>
              <a:t>реакције</a:t>
            </a:r>
            <a:r>
              <a:rPr b="0" lang="en-US" sz="32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Latn-CS" sz="3200" spc="-1" strike="noStrike">
                <a:solidFill>
                  <a:srgbClr val="ffff00"/>
                </a:solidFill>
                <a:latin typeface="Dutch"/>
              </a:rPr>
              <a:t>-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Dutch"/>
              </a:rPr>
              <a:t>одупирање</a:t>
            </a:r>
            <a:r>
              <a:rPr b="0" lang="en-US" sz="32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Dutch"/>
              </a:rPr>
              <a:t>на</a:t>
            </a:r>
            <a:r>
              <a:rPr b="0" lang="en-US" sz="32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Dutch"/>
              </a:rPr>
              <a:t>руке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209680" cy="1969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>
            <a:off x="3276720" y="1828800"/>
            <a:ext cx="2238120" cy="1962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3"/>
          <a:stretch/>
        </p:blipFill>
        <p:spPr>
          <a:xfrm>
            <a:off x="5867280" y="1828800"/>
            <a:ext cx="2857680" cy="1781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4"/>
          <a:stretch/>
        </p:blipFill>
        <p:spPr>
          <a:xfrm>
            <a:off x="609480" y="4048200"/>
            <a:ext cx="1247760" cy="2504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5"/>
          <a:stretch/>
        </p:blipFill>
        <p:spPr>
          <a:xfrm>
            <a:off x="1981080" y="4038480"/>
            <a:ext cx="1828800" cy="1704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"/>
          <p:cNvPicPr/>
          <p:nvPr/>
        </p:nvPicPr>
        <p:blipFill>
          <a:blip r:embed="rId6"/>
          <a:stretch/>
        </p:blipFill>
        <p:spPr>
          <a:xfrm>
            <a:off x="4038480" y="4038480"/>
            <a:ext cx="2381400" cy="13622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"/>
          <p:cNvPicPr/>
          <p:nvPr/>
        </p:nvPicPr>
        <p:blipFill>
          <a:blip r:embed="rId7"/>
          <a:stretch/>
        </p:blipFill>
        <p:spPr>
          <a:xfrm>
            <a:off x="6629400" y="3962520"/>
            <a:ext cx="1397160" cy="1447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"/>
          <p:cNvPicPr/>
          <p:nvPr/>
        </p:nvPicPr>
        <p:blipFill>
          <a:blip r:embed="rId8"/>
          <a:stretch/>
        </p:blipFill>
        <p:spPr>
          <a:xfrm>
            <a:off x="6629400" y="5479920"/>
            <a:ext cx="137160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Dutch"/>
              </a:rPr>
              <a:t>Реакција</a:t>
            </a:r>
            <a:r>
              <a:rPr b="1" lang="en-US" sz="28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Dutch"/>
              </a:rPr>
              <a:t>одупирања</a:t>
            </a:r>
            <a:r>
              <a:rPr b="1" lang="en-US" sz="28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Dutch"/>
              </a:rPr>
              <a:t>на</a:t>
            </a:r>
            <a:r>
              <a:rPr b="1" lang="en-US" sz="28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Dutch"/>
              </a:rPr>
              <a:t>руке</a:t>
            </a:r>
            <a:r>
              <a:rPr b="1" lang="en-US" sz="28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Dutch"/>
              </a:rPr>
              <a:t>у</a:t>
            </a:r>
            <a:r>
              <a:rPr b="1" lang="en-US" sz="28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Dutch"/>
              </a:rPr>
              <a:t>стојећем</a:t>
            </a:r>
            <a:r>
              <a:rPr b="1" lang="en-US" sz="28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Dutch"/>
              </a:rPr>
              <a:t>положају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990720" y="1641600"/>
            <a:ext cx="3047760" cy="44542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Дет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стој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поред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зид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.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Терапеут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ј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из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ил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поред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детет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обухват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рук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с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ипсилатералн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стран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преко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надлактиц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ил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лакт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.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даљем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ток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терапеут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довод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рук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детет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абдукциј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спољн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ротациј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затим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гур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дет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прем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зид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д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б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дошло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до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одупирањ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н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рук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Dutch"/>
              </a:rPr>
              <a:t>Увежбавање</a:t>
            </a:r>
            <a:r>
              <a:rPr b="0" lang="en-US" sz="36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600" spc="-1" strike="noStrike">
                <a:solidFill>
                  <a:srgbClr val="ffff00"/>
                </a:solidFill>
                <a:latin typeface="Dutch"/>
              </a:rPr>
              <a:t>реакција</a:t>
            </a:r>
            <a:r>
              <a:rPr b="0" lang="en-US" sz="36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600" spc="-1" strike="noStrike">
                <a:solidFill>
                  <a:srgbClr val="ffff00"/>
                </a:solidFill>
                <a:latin typeface="Dutch"/>
              </a:rPr>
              <a:t>равнотеже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500040" y="928800"/>
            <a:ext cx="2900520" cy="284004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ет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стављ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кретн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длог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ро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мерањ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длог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зазивај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еакциј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ј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овод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спостављањ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авнотеж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ет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лаз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покретној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длоз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гурање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етет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азни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авцим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зазивај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уромускуларн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дговор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овод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спостављањ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авнотеж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1143000" y="3971880"/>
            <a:ext cx="277164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Dutch"/>
              </a:rPr>
              <a:t>Увежбавање</a:t>
            </a:r>
            <a:r>
              <a:rPr b="0" lang="en-US" sz="36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600" spc="-1" strike="noStrike">
                <a:solidFill>
                  <a:srgbClr val="ffff00"/>
                </a:solidFill>
                <a:latin typeface="Dutch"/>
              </a:rPr>
              <a:t>равнотеже</a:t>
            </a:r>
            <a:r>
              <a:rPr b="0" lang="en-US" sz="36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600" spc="-1" strike="noStrike">
                <a:solidFill>
                  <a:srgbClr val="ffff00"/>
                </a:solidFill>
                <a:latin typeface="Dutch"/>
              </a:rPr>
              <a:t>у</a:t>
            </a:r>
            <a:r>
              <a:rPr b="0" lang="en-US" sz="36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600" spc="-1" strike="noStrike">
                <a:solidFill>
                  <a:srgbClr val="ffff00"/>
                </a:solidFill>
                <a:latin typeface="Dutch"/>
              </a:rPr>
              <a:t>супинираном</a:t>
            </a:r>
            <a:r>
              <a:rPr b="0" lang="en-US" sz="36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600" spc="-1" strike="noStrike">
                <a:solidFill>
                  <a:srgbClr val="ffff00"/>
                </a:solidFill>
                <a:latin typeface="Dutch"/>
              </a:rPr>
              <a:t>положају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2116080" cy="24732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Дет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леж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н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покретној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дасц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ледјном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положај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терапеут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лагано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нагињ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даск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н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једн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п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н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друг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страну.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Н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тај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начин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условљав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успостављањ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равнотеж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хармонизациј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покрет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2"/>
          <a:stretch/>
        </p:blipFill>
        <p:spPr>
          <a:xfrm>
            <a:off x="762120" y="4686480"/>
            <a:ext cx="27432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Dutch"/>
              </a:rPr>
              <a:t>Увежбавање равнотеже у седећем положају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48320" y="1641600"/>
            <a:ext cx="4495680" cy="521640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Дете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седи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столици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Терапеут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хват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дете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рамен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гур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г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свим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правцим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Дете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седи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столици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Терапеут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поди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`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једну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ногу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преко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хват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подколенице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затим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руку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ипсилатералне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стране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Повлачећи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дете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страну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долази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успостваљањ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равнотеже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Дете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седи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покретној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дасци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лопти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Тераепут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нагиње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даску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помер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лопту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Дете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седи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поду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Терапеут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испред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детет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Хватом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обе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подколенице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терапеут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гур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ноге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к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напред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к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назад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лево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десно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66600" y="1600200"/>
            <a:ext cx="2219400" cy="272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2"/>
          <a:stretch/>
        </p:blipFill>
        <p:spPr>
          <a:xfrm>
            <a:off x="2362320" y="1600200"/>
            <a:ext cx="2219040" cy="2724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3"/>
          <a:stretch/>
        </p:blipFill>
        <p:spPr>
          <a:xfrm>
            <a:off x="57240" y="4448160"/>
            <a:ext cx="2228760" cy="2333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"/>
          <p:cNvPicPr/>
          <p:nvPr/>
        </p:nvPicPr>
        <p:blipFill>
          <a:blip r:embed="rId4"/>
          <a:stretch/>
        </p:blipFill>
        <p:spPr>
          <a:xfrm>
            <a:off x="2362320" y="4419720"/>
            <a:ext cx="22096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Dutch"/>
              </a:rPr>
              <a:t>Увежбавање</a:t>
            </a:r>
            <a:r>
              <a:rPr b="1" lang="en-US" sz="36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Dutch"/>
              </a:rPr>
              <a:t>равнотеже</a:t>
            </a:r>
            <a:r>
              <a:rPr b="1" lang="en-US" sz="36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Dutch"/>
              </a:rPr>
              <a:t>у</a:t>
            </a:r>
            <a:r>
              <a:rPr b="1" lang="en-US" sz="36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_New_Roman"/>
              </a:rPr>
              <a:t>четвороножном</a:t>
            </a:r>
            <a:r>
              <a:rPr b="1" lang="sr-Latn-CS" sz="3600" spc="-1" strike="noStrike">
                <a:solidFill>
                  <a:srgbClr val="ffff00"/>
                </a:solidFill>
                <a:latin typeface="Times_New_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_New_Roman"/>
              </a:rPr>
              <a:t>полож</a:t>
            </a:r>
            <a:r>
              <a:rPr b="1" lang="sr-CS" sz="3600" spc="-1" strike="noStrike">
                <a:solidFill>
                  <a:srgbClr val="ffff00"/>
                </a:solidFill>
                <a:latin typeface="Dutch"/>
              </a:rPr>
              <a:t>ају</a:t>
            </a:r>
            <a:r>
              <a:rPr b="1" lang="en-US" sz="3600" spc="-1" strike="noStrike">
                <a:solidFill>
                  <a:srgbClr val="ffff00"/>
                </a:solidFill>
                <a:latin typeface="Dutch"/>
              </a:rPr>
              <a:t>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48320" y="1641240"/>
            <a:ext cx="41148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Дет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с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налаз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четвороножном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положај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.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Терапеут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гур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дет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стран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напред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ил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назад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.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Хватов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с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преко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рамен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ил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карлиц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609480" y="1214280"/>
            <a:ext cx="3462480" cy="2548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"/>
          <p:cNvPicPr/>
          <p:nvPr/>
        </p:nvPicPr>
        <p:blipFill>
          <a:blip r:embed="rId2"/>
          <a:stretch/>
        </p:blipFill>
        <p:spPr>
          <a:xfrm>
            <a:off x="857160" y="3929040"/>
            <a:ext cx="382428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_New_Roman"/>
              </a:rPr>
              <a:t>Увежбавање</a:t>
            </a:r>
            <a:r>
              <a:rPr b="1" lang="en-US" sz="3600" spc="-1" strike="noStrike">
                <a:solidFill>
                  <a:srgbClr val="ffff00"/>
                </a:solidFill>
                <a:latin typeface="Times_New_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_New_Roman"/>
              </a:rPr>
              <a:t>равнотеже</a:t>
            </a:r>
            <a:r>
              <a:rPr b="1" lang="en-US" sz="3600" spc="-1" strike="noStrike">
                <a:solidFill>
                  <a:srgbClr val="ffff00"/>
                </a:solidFill>
                <a:latin typeface="Times_New_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_New_Roman"/>
              </a:rPr>
              <a:t>у</a:t>
            </a:r>
            <a:r>
              <a:rPr b="1" lang="sr-Latn-CS" sz="3600" spc="-1" strike="noStrike">
                <a:solidFill>
                  <a:srgbClr val="ffff00"/>
                </a:solidFill>
                <a:latin typeface="Times_New_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_New_Roman"/>
              </a:rPr>
              <a:t>четрвороножном</a:t>
            </a:r>
            <a:r>
              <a:rPr b="1" lang="sr-Latn-CS" sz="3600" spc="-1" strike="noStrike">
                <a:solidFill>
                  <a:srgbClr val="ffff00"/>
                </a:solidFill>
                <a:latin typeface="Times_New_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_New_Roman"/>
              </a:rPr>
              <a:t>положају</a:t>
            </a:r>
            <a:r>
              <a:rPr b="1" lang="en-US" sz="3600" spc="-1" strike="noStrike">
                <a:solidFill>
                  <a:srgbClr val="ffff00"/>
                </a:solidFill>
                <a:latin typeface="Times_New_Roman"/>
              </a:rPr>
              <a:t>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YUDutchI"/>
              </a:rPr>
              <a:t>Терапеут</a:t>
            </a:r>
            <a:r>
              <a:rPr b="1" lang="en-US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YUDutchI"/>
              </a:rPr>
              <a:t>подиже</a:t>
            </a:r>
            <a:r>
              <a:rPr b="1" lang="en-US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YUDutchI"/>
              </a:rPr>
              <a:t>наизменично</a:t>
            </a:r>
            <a:r>
              <a:rPr b="1" lang="en-US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YUDutchI"/>
              </a:rPr>
              <a:t>руку</a:t>
            </a:r>
            <a:r>
              <a:rPr b="1" lang="en-US" sz="2800" spc="-1" strike="noStrike">
                <a:solidFill>
                  <a:srgbClr val="ffffff"/>
                </a:solidFill>
                <a:latin typeface="YUDutchI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YUDutchI"/>
              </a:rPr>
              <a:t>па</a:t>
            </a:r>
            <a:r>
              <a:rPr b="1" lang="en-US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YUDutchI"/>
              </a:rPr>
              <a:t>супротну</a:t>
            </a:r>
            <a:r>
              <a:rPr b="1" lang="en-US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YUDutchI"/>
              </a:rPr>
              <a:t>ногу</a:t>
            </a:r>
            <a:r>
              <a:rPr b="1" lang="en-US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YUDutchI"/>
              </a:rPr>
              <a:t>како</a:t>
            </a:r>
            <a:r>
              <a:rPr b="1" lang="en-US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YUDutchI"/>
              </a:rPr>
              <a:t>би</a:t>
            </a:r>
            <a:r>
              <a:rPr b="1" lang="en-US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YUDutchI"/>
              </a:rPr>
              <a:t>се</a:t>
            </a:r>
            <a:r>
              <a:rPr b="1" lang="en-US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YUDutchI"/>
              </a:rPr>
              <a:t>површина</a:t>
            </a:r>
            <a:r>
              <a:rPr b="1" lang="en-US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YUDutchI"/>
              </a:rPr>
              <a:t>ослонца</a:t>
            </a:r>
            <a:r>
              <a:rPr b="1" lang="en-US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YUDutchI"/>
              </a:rPr>
              <a:t>смањила</a:t>
            </a:r>
            <a:r>
              <a:rPr b="1" lang="en-US" sz="2800" spc="-1" strike="noStrike">
                <a:solidFill>
                  <a:srgbClr val="ffffff"/>
                </a:solidFill>
                <a:latin typeface="YUDutch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152280" y="1428840"/>
            <a:ext cx="1847880" cy="1971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2"/>
          <a:stretch/>
        </p:blipFill>
        <p:spPr>
          <a:xfrm>
            <a:off x="2133720" y="1428840"/>
            <a:ext cx="2247840" cy="2019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3"/>
          <a:stretch/>
        </p:blipFill>
        <p:spPr>
          <a:xfrm>
            <a:off x="857160" y="4000680"/>
            <a:ext cx="3672000" cy="26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Увежбавање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равнотеже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у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стојећем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став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36" name="Group 9"/>
          <p:cNvGrpSpPr/>
          <p:nvPr/>
        </p:nvGrpSpPr>
        <p:grpSpPr>
          <a:xfrm>
            <a:off x="304920" y="2743200"/>
            <a:ext cx="8762760" cy="2438280"/>
            <a:chOff x="304920" y="2743200"/>
            <a:chExt cx="8762760" cy="2438280"/>
          </a:xfrm>
        </p:grpSpPr>
        <p:pic>
          <p:nvPicPr>
            <p:cNvPr id="237" name="Picture 3" descr=""/>
            <p:cNvPicPr/>
            <p:nvPr/>
          </p:nvPicPr>
          <p:blipFill>
            <a:blip r:embed="rId1"/>
            <a:stretch/>
          </p:blipFill>
          <p:spPr>
            <a:xfrm>
              <a:off x="304920" y="2743200"/>
              <a:ext cx="134280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" descr=""/>
            <p:cNvPicPr/>
            <p:nvPr/>
          </p:nvPicPr>
          <p:blipFill>
            <a:blip r:embed="rId2"/>
            <a:stretch/>
          </p:blipFill>
          <p:spPr>
            <a:xfrm>
              <a:off x="1752480" y="2743200"/>
              <a:ext cx="1333800" cy="24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5" descr=""/>
            <p:cNvPicPr/>
            <p:nvPr/>
          </p:nvPicPr>
          <p:blipFill>
            <a:blip r:embed="rId3"/>
            <a:stretch/>
          </p:blipFill>
          <p:spPr>
            <a:xfrm>
              <a:off x="3200400" y="2743200"/>
              <a:ext cx="1467000" cy="23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6" descr=""/>
            <p:cNvPicPr/>
            <p:nvPr/>
          </p:nvPicPr>
          <p:blipFill>
            <a:blip r:embed="rId4"/>
            <a:stretch/>
          </p:blipFill>
          <p:spPr>
            <a:xfrm>
              <a:off x="4800600" y="2743200"/>
              <a:ext cx="1357200" cy="23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7" descr=""/>
            <p:cNvPicPr/>
            <p:nvPr/>
          </p:nvPicPr>
          <p:blipFill>
            <a:blip r:embed="rId5"/>
            <a:stretch/>
          </p:blipFill>
          <p:spPr>
            <a:xfrm>
              <a:off x="6248520" y="2743200"/>
              <a:ext cx="1350720" cy="23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8" descr=""/>
            <p:cNvPicPr/>
            <p:nvPr/>
          </p:nvPicPr>
          <p:blipFill>
            <a:blip r:embed="rId6"/>
            <a:stretch/>
          </p:blipFill>
          <p:spPr>
            <a:xfrm>
              <a:off x="7781760" y="2743200"/>
              <a:ext cx="1285920" cy="2361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тиологија 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DCO-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пренатални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фактор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нфективна обољења мајке у трудноћ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(toksoplazmoza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ubeola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treptokok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аум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e (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рвареља из постељиц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e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нтоксикац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je (eklampsija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ремећај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KVS (anemija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lacenta previa, Ab imminens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онгениталне аномалије плод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mikrocephalia, pachigyria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Етиологиј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ЦО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натални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фактор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рематурус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зрел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јетр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ерад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илируби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орођајна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асфикс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h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AB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нкопатибил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perbilirubinemio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&gt;20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г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илируби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рз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рођај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агл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оме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итиск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рођај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рау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00"/>
                </a:solidFill>
                <a:latin typeface="Times New Roman"/>
              </a:rPr>
              <a:t>Етологија</a:t>
            </a:r>
            <a:r>
              <a:rPr b="0" lang="sr-Latn-C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000" spc="-1" strike="noStrike">
                <a:solidFill>
                  <a:srgbClr val="ffff00"/>
                </a:solidFill>
                <a:latin typeface="Times New Roman"/>
              </a:rPr>
              <a:t>ДЦО</a:t>
            </a:r>
            <a:r>
              <a:rPr b="0" lang="sr-Latn-CS" sz="40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sr-CS" sz="4000" spc="-1" strike="noStrike">
                <a:solidFill>
                  <a:srgbClr val="ffff00"/>
                </a:solidFill>
                <a:latin typeface="Times New Roman"/>
              </a:rPr>
              <a:t>постнатални</a:t>
            </a:r>
            <a:r>
              <a:rPr b="0" lang="sr-Latn-C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000" spc="-1" strike="noStrike">
                <a:solidFill>
                  <a:srgbClr val="ffff00"/>
                </a:solidFill>
                <a:latin typeface="Times New Roman"/>
              </a:rPr>
              <a:t>фактори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ening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Encefal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onvulz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Класификациј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ЦО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неуромоторн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днос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линичк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лик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пастицитет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тетоз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игидитет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такси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ремор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ешовите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днос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ону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ипертонич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ипотонич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форм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днос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локализациј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лези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ирамидн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пастич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екстрапирамид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искинетич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Класификациј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ЦО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топографск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араплеги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арапаре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емиплеги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емипаре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риплеги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рипаре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вадриплеги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вадрипаре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8:32:48Z</dcterms:created>
  <dc:creator>WIN98SE</dc:creator>
  <dc:description/>
  <dc:language>en-US</dc:language>
  <cp:lastModifiedBy>Info</cp:lastModifiedBy>
  <dcterms:modified xsi:type="dcterms:W3CDTF">2014-03-24T09:30:55Z</dcterms:modified>
  <cp:revision>36</cp:revision>
  <dc:subject/>
  <dc:title>BOBATH tehnika</dc:title>
</cp:coreProperties>
</file>